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236A-A34F-4529-9554-5D9D550C1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6DBE-42A1-4E1F-8EBA-5A9112E60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D5F9-1DAA-4B9B-BC2A-35E56CC14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36BC-7D7F-429D-963B-3001BFF20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D5A1-540A-4B5F-B994-E3D1E7D6D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4DF0-78A5-4E14-9E63-122ABD2C9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A250-038C-4E95-A1BF-CBDB4FFAA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A0EC-F420-4119-8465-543E75CDA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9EDF-718B-4178-BBEC-65C26CB3D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3D07-12B4-4D1E-B873-58344CED4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F8E2-785F-4E00-AE5C-769DF02A3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511C-FE68-4341-995F-A4E4947F5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50B1-01E0-4AD1-82C6-BBEBA00D1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7400-4DB0-45AC-B944-E7170E57E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5179-F800-474A-9247-B822A0C04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88CE-84D0-4719-98FD-654620863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CB22-4A8B-4793-B218-6F374090F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31B3-2B47-4717-930C-37926AF30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827F-7AEE-4EDD-9E96-F0CD3341C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1AD9-766C-45A1-B43A-90DEF15DB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B95D-B20A-4E62-BB27-E98FA5A12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35C8-9DE6-4E43-AB54-3FA9BE9AA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BDC0-9425-43D8-A8DA-66378A3E1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02C7-7E67-405F-978F-31693CFB5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D9BC-1B64-4C8C-B851-267A9B27E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6D85-6160-4407-97E2-C1A3C113D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D485-9686-472B-9FAC-1C05D2BF0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9ACD-5495-4184-840F-BFE319DBE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E106-BA4E-4D03-A2C2-A44C50836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78F2-C08A-4E4F-9BD1-C4CDA4DF0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8ABC-7CD6-4166-B9DD-226E8844A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3F73-F016-45A3-B66B-370706796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0222-137A-46FD-AEEF-66F117F49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724F-CD11-48DF-B86F-1ACBF6EE5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22F8-AB0F-47CB-BCFD-6471BDE77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BAF3-092D-4EA6-914F-149447D80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DACF-29F5-4B7A-AE37-89A05B93E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2712-389C-494C-B698-EB5B54562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CD38-A4E8-4494-9777-5AAC7260F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8BEC-AAE7-49A1-9BFD-CCF1B08BB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B7B6-DB63-45E4-9215-CC236CA7D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ABBC-B48F-4C6E-B41F-BC476E743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2C64-8019-448E-B29D-A180C5338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ECD3-2821-40FF-BE96-51A92DC18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F530-49B5-4D7D-8D38-0F3CE52BA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489C-0692-4990-9CFA-FDD150807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C921-0AE7-4DDC-BE6C-49354D7EE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CEE8-8EEF-4780-905C-589D2E2F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1A9B-3DCD-495A-8385-2B174723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D2A5-E299-4DD8-B2A7-D22735C8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2362-D217-4E5E-852D-152C1436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74FA-07CB-438C-B183-F56457C7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46C8-3DE3-4BE3-B2D0-1B6F0AB0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8918-ED5C-4EA3-AB69-3FF38953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9083-CCD3-4709-B7F6-06FC2113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409F-56AB-4877-99CC-CEE910C0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E553-00B0-4774-BA82-EBBA4703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427-EC2A-46AD-B9D5-DF2A832A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F68B-9D55-4565-8BD7-69C901BB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EE3A-8C49-49F4-BD19-04BCCE85F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2E12-74D2-4063-89AA-9ABCCE195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17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The Individuals with Disabilities Education A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Sound 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125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628D-99DA-456F-8E5C-F68EDBE97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Educational Evaluations (IE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parents with information on where to obtain an I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o one IEE at public exp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EA evaluation is appropriate, the parents are entitled to an IEE, but not at public exp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of the IEE must be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 results may be presented at a he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earing officer may request an I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812F-7870-467B-8FCB-59FE489E3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Rules for Determining Eligibility in IDEA 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440" y="2057400"/>
            <a:ext cx="87631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hild will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e determined to be a child with a disability if the basis of the child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 problem is lack of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cientifically based instruc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reading, lack of appropriate teaching in math, or L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ally based reading instruction addresses the essential components of reading as listed by the National Reading Pa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B38A-F070-467E-8909-1E9F10174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Rule for Determining Eligibility for Learning Disabilities (IDEA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etermining whether a child has a learning disability, an LEA sha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required to take into consideration a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iscrepa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ability and achie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LEA may use a process that determines if the child responds to scientific, research-based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5BAC-3DF4-415A-9CAF-0507FD082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17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Referral and Assessment Proc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5CCA-A38C-4BDF-B2C9-AD5621B97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25000" y="228600"/>
            <a:ext cx="6891480" cy="82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ferral Proc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115560" y="1371600"/>
            <a:ext cx="8911080" cy="51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disciplinary team (MDT) receives a student refer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175040" y="3581280"/>
            <a:ext cx="6792480" cy="51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DT seeks parental permission to ass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036800" y="2438280"/>
            <a:ext cx="7070040" cy="51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DT decides if sped assessment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486080" y="4724280"/>
            <a:ext cx="6172200" cy="51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DT receives informed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676520" y="5867280"/>
            <a:ext cx="5790960" cy="51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DT conducts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4381560" y="19810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4381560" y="31240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0"/>
          <p:cNvSpPr/>
          <p:nvPr/>
        </p:nvSpPr>
        <p:spPr>
          <a:xfrm>
            <a:off x="4381560" y="42670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1"/>
          <p:cNvSpPr/>
          <p:nvPr/>
        </p:nvSpPr>
        <p:spPr>
          <a:xfrm>
            <a:off x="4381560" y="54100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228600" y="6477120"/>
            <a:ext cx="733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EFF6-70FE-4866-BC06-B98A768A4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880" y="457200"/>
            <a:ext cx="7840800" cy="82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ssessment Proc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329480" y="1752480"/>
            <a:ext cx="648468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DT team conducts 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627840" y="4267080"/>
            <a:ext cx="788688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 the child need special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16320" y="2971800"/>
            <a:ext cx="790956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 the child have an IDEA dis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443320" y="5486400"/>
            <a:ext cx="425592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oints IEP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4381560" y="25146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4381560" y="36576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4381560" y="49528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65FB-4F34-4371-8189-BC9887EA2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 3: Free Appropriate Public Education (FAP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19040" y="2286000"/>
            <a:ext cx="8305920" cy="327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 education and related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d at public exp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 state educational agency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d in conformity with the Individualized Education Program (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Sound 1" descr=""/>
          <p:cNvPicPr/>
          <p:nvPr/>
        </p:nvPicPr>
        <p:blipFill>
          <a:blip r:embed="rId1"/>
          <a:stretch/>
        </p:blipFill>
        <p:spPr>
          <a:xfrm>
            <a:off x="380880" y="525780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3D76-70F6-4060-92B2-D33897F45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ecial Edu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2200" y="20574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ly designed instruction to meet the unique needs of a student with a di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 in the classroom, home, hospital, or oth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academic skills, physical and motor skills, language skills, vocational skills, and functi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A3D5-5D45-4893-8456-B79AE4A40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e Edu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ucational services must be provided at no charge to par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es only to special education and related servic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esn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 include incidental fees such as field trip expe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152C-1F0B-4ABC-9229-5FC45662D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9992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ppropriate Edu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ppropriate must be decided on a case by case ba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st meet state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vided in conformity with I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2060-C6D8-4F0B-AAD9-84817EF21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x Principles of ID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ro Re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e Appropriate Public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ection in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st Restrictive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dural Safegu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ental Particip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75C3-8FAC-414D-9D58-9CADA6207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ublic Edu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ets state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ludes children placed in private facilities by the school distri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children are placed in private facilities the school must make a FAPE avail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FAPE is available and appropriate, schools do not have to p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5A9B-1DF5-450E-86B0-22821E3FD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lated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vices that may be required to assist a child with a disability to benefit from special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BC29-8F18-4A4B-87C0-C7915F6C0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exhaustive List of Specific Related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5360" y="18288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istive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nseling and Psychological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idential Plac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Work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ent Counseling and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ech Thera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CFE4-0971-42D6-B023-0F9D7EFD3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exhaustive List of specific Related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and Occupation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Health Services (including complex health services if nee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gically implanted medical devices (e.g.,  Cochlear Impla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90E1-9985-4D85-BB67-A1880BA21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ssistive Technology (A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T is required, a person qualified to conduct AT assessments should be on the IEP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 may include home use of the AT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AT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al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mentativ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ity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F6AC-A076-4DE8-B955-CB24955F5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Individualized Education Progr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tement of a stud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special education and relate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EP must be in effect by the beginning of the school year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s are responsible for developing, implementing, and rev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EP is developed in an IEP meeting in whic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sessment results are discus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ud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educational program is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ud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placement is determ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3B70-51A1-4ED1-AFD2-0A3125A1D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228240"/>
            <a:ext cx="8001000" cy="11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ants in the IEP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1904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 algn="ctr"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representative of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education tea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 education tea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son knowledgeable about 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s at request of IEP particip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C328-920E-4627-8369-994079388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880" y="-360"/>
            <a:ext cx="7840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IEP Proc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1850760" y="990720"/>
            <a:ext cx="5440680" cy="1064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the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Develop the PLAAFP statement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061280" y="2536920"/>
            <a:ext cx="7021080" cy="21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 the Educational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Develop Measurable Annual Goal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Develop Special Education Service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Determine Progress Monitoring System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Determine Student Placement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228600" y="5105520"/>
            <a:ext cx="8686800" cy="136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itor Student Prog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Communicate the student</a:t>
            </a:r>
            <a:r>
              <a:rPr b="0" i="1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 progress to his/her parent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Make changes if neede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4381560" y="20574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4381560" y="464832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228600" y="6477120"/>
            <a:ext cx="733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8E4A-92AA-489C-9A59-4E8146163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tent of the IE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levels of academic achievement &amp; functiona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able annual goals, including academic &amp; functional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scription of how the stud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progress toward meeting the goals will be measured and when reports will be issued to parents (concurrent with report car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tement of special education and related services based on peer-reviewed research to be provided to the student.  This 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ementary aids &amp;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mod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for school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228600" y="6477120"/>
            <a:ext cx="733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F2CD-EAF0-412E-8376-444E63485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tent of the IEP (continued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lanation of the extent, if any, to which the student will not participate with nondisabled students in the general education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tement of any individual accommodations that are needed to measure the stud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achievement on statewide assessments or if the student is taking an alternate assessment the IEP must explain why this option was cho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jected date for the beginning, frequency, location, and duration 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E43E-3661-4817-8918-384346EF1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x Principles of ID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280" y="1676520"/>
          <a:ext cx="8839440" cy="4790880"/>
        </p:xfrm>
        <a:graphic>
          <a:graphicData uri="http://schemas.openxmlformats.org/drawingml/2006/table">
            <a:tbl>
              <a:tblPr/>
              <a:tblGrid>
                <a:gridCol w="4419720"/>
                <a:gridCol w="4419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le of ID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ir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ero Re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te, identify, &amp; provide services to all eligible students with disabiliti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ection in 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duct an assessment to determine if a student has an IDEA related disability and if he/she needs special education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e Appropriate Public Edu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 and deliver an individualized education program of special education services that confers meaningful educational benefit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st Restrictive Enviro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e students with disabilities with nondisabled students to the maximum extent appropriat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dural Safegu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y with the procedural requirements of the IDE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ntal Particip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laborate with parents in the development and delivery of their child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special education progra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29"/>
          <p:cNvSpPr/>
          <p:nvPr/>
        </p:nvSpPr>
        <p:spPr>
          <a:xfrm>
            <a:off x="228600" y="6461280"/>
            <a:ext cx="733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B7D7-0561-459B-8513-7AB7D454B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r some students, the IEP should includ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not later than the first IEP in effect when the students is 16 and updated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measurable postsecondary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rights when he/she reaches the age of maj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tud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behavior impedes his/her learning or the learning of others, positive behavioral interventions &amp; sup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ive technolog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7351-3F16-4F09-AD9D-E2EA61955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906156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inciple 4: Least Restrictive Environment (LRE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3680" y="2361960"/>
            <a:ext cx="82166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maximum extent appropriate children with disabilities are to be educated with children who are not disab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al may only occur when education in regular classes with the use of supplementary aids and services cannot be achieved satisfactor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Sound 1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52A4-7E2F-46A1-9CE8-8E3C71BDE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80960" y="456840"/>
            <a:ext cx="8182080" cy="11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tinuum of Alternate Place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0"/>
          <p:cNvGrpSpPr/>
          <p:nvPr/>
        </p:nvGrpSpPr>
        <p:grpSpPr>
          <a:xfrm>
            <a:off x="1622880" y="2133720"/>
            <a:ext cx="5896440" cy="4418640"/>
            <a:chOff x="1622880" y="2133720"/>
            <a:chExt cx="5896440" cy="4418640"/>
          </a:xfrm>
        </p:grpSpPr>
        <p:sp>
          <p:nvSpPr>
            <p:cNvPr id="198" name="Rectangle 3"/>
            <p:cNvSpPr/>
            <p:nvPr/>
          </p:nvSpPr>
          <p:spPr>
            <a:xfrm>
              <a:off x="2404440" y="2133720"/>
              <a:ext cx="4374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Regular Classroo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4"/>
            <p:cNvSpPr/>
            <p:nvPr/>
          </p:nvSpPr>
          <p:spPr>
            <a:xfrm flipH="1" rot="16200000">
              <a:off x="4279680" y="2732040"/>
              <a:ext cx="622080" cy="64080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5"/>
            <p:cNvSpPr/>
            <p:nvPr/>
          </p:nvSpPr>
          <p:spPr>
            <a:xfrm>
              <a:off x="1622880" y="3443040"/>
              <a:ext cx="58964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Self-Contained Classroo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6"/>
            <p:cNvSpPr/>
            <p:nvPr/>
          </p:nvSpPr>
          <p:spPr>
            <a:xfrm flipH="1" rot="16200000">
              <a:off x="4303800" y="4066560"/>
              <a:ext cx="622080" cy="64116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2758320" y="4755960"/>
              <a:ext cx="3684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Special School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8"/>
            <p:cNvSpPr/>
            <p:nvPr/>
          </p:nvSpPr>
          <p:spPr>
            <a:xfrm flipH="1" rot="16200000">
              <a:off x="4326480" y="5314680"/>
              <a:ext cx="621720" cy="64116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9"/>
            <p:cNvSpPr/>
            <p:nvPr/>
          </p:nvSpPr>
          <p:spPr>
            <a:xfrm>
              <a:off x="2460600" y="5914800"/>
              <a:ext cx="4317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Hospital/Institutio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1"/>
          <p:cNvSpPr/>
          <p:nvPr/>
        </p:nvSpPr>
        <p:spPr>
          <a:xfrm>
            <a:off x="228600" y="6477120"/>
            <a:ext cx="733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A67F-BE16-43AA-B76E-4896C837C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76240" y="228240"/>
            <a:ext cx="7391520" cy="125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RE The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0760" y="1828800"/>
            <a:ext cx="8502480" cy="424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ropriat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RE is not intended to replace appropriat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vidu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ize does not fi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re continuum of placements must b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gration/Inclusion B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must start with the notion of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9854-1E5D-46D4-B7C1-4351BAE0B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0440" y="380520"/>
            <a:ext cx="8763120" cy="125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appropriate Consider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82720" y="2133360"/>
            <a:ext cx="73785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cement according to category or seve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cement where services are traditionally provi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ting disruption w/o evidence of behavior management attem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st, unless excess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CFE9-FB17-4AFC-B3B2-59D4C858D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0560" y="304920"/>
            <a:ext cx="8102880" cy="90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termining L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2645640" y="1362240"/>
            <a:ext cx="3852720" cy="136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Determine F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Goals and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What is appropri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 flipV="1">
            <a:off x="4584600" y="2765160"/>
            <a:ext cx="19080" cy="5713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598320" y="3355920"/>
            <a:ext cx="7909200" cy="210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Determine Plac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an FAPE be achieved in general ed. with supplementary aids and serv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f no, move through the continuum to determine L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6"/>
          <p:cNvSpPr/>
          <p:nvPr/>
        </p:nvSpPr>
        <p:spPr>
          <a:xfrm flipV="1">
            <a:off x="4633920" y="5128920"/>
            <a:ext cx="19080" cy="5713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1308240" y="5732640"/>
            <a:ext cx="6696000" cy="118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Provide Integrated Experi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228600" y="6477120"/>
            <a:ext cx="733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A44E-CE0A-4C6F-AB92-CD83288DB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5520" y="45684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inciple 5: Procedural Safegua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96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marL="205560" indent="-20556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ice and consent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rrogate par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portunity to examine rec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ependent educational 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lution s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artial due process hea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228600" y="6477120"/>
            <a:ext cx="733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Sound 1" descr=""/>
          <p:cNvPicPr/>
          <p:nvPr/>
        </p:nvPicPr>
        <p:blipFill>
          <a:blip r:embed="rId1"/>
          <a:stretch/>
        </p:blipFill>
        <p:spPr>
          <a:xfrm>
            <a:off x="152280" y="4648320"/>
            <a:ext cx="812880" cy="81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0955-2D76-4876-9754-FC7F3D3EF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84582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cedural Safeguards Not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9172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dural safeguard notice may be given only once a year except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refer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al request for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filing of a due process h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request of the 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districts may post procedural safeguard notice on their Web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dural safeguards notice must includ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 timeframes for filing due process hearing requests (b) the opportunity for resolution process (c) information on mediation, and (d) timeframes for laws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719A-953D-4061-9575-0AD75E068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di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3680" y="1371600"/>
            <a:ext cx="8216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must offer mediation as a voluntary  option to parents and educators for resolving disp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diator must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d or qualified to conduct mediation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able about special education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r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ediation is unsuccessful, either party may request a due process h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EC10-6358-4C81-81DE-F5A6F54D5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42720" y="304920"/>
            <a:ext cx="84582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ritten Settlement Agre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301760"/>
            <a:ext cx="914400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esolution is reached to resolve the complaint at a resolution session, the parties execute a legally binding agreement (written settlement agreement) 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ed by both the parents and a representative of the a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orceable in any state court of competent juris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arties execute a written settlement agreement, a party may void the agreement within three business days of the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A818-A590-4005-8CD1-9DBBBA718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inciple 1: Zero Reje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880" y="2057400"/>
            <a:ext cx="9086760" cy="438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cate, identify, &amp; serve all students with disabilities aged 3 –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ild find oblig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criteria for elig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ent must be determined to have a disability that is covered by th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 the disability, the student needs special education and relat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ound 1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A86D-AFCB-4B71-BBC9-B21ABD355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552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ue Process Hea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09520" y="1523880"/>
            <a:ext cx="8724960" cy="444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 or school may initiate a h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ings may involve issues regarding identification, evaluation, or 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ring must be conducted by the L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ring officer must be impar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ing exhaustion of administrative remedies either party may appeal the decision to state or federal cou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5E9F-9F1E-4D04-8EA8-ACFF2DF13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8458200" cy="13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ttorneys Fe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3200" y="1295280"/>
            <a:ext cx="880128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agencies may recover their attorney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es from parent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torneys if their case w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vol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reaso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agencies may recover attorney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es against the parent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torney or the parents if the case was presented for any improper purpose such as 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 unnecessary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needlessly increase the cost of li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8D0F-A59F-41BC-BC58-909CEE279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inciple 6:  Parental Particip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al Notification and Con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:  To provide parents with sufficient information, in a timely manner, so that they may fully participate in educational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notice and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Sound 1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27CB-699E-45A8-B990-C248D8B3E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ental Notification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 must be notified a reasonable amount of time before the scho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es or changes identification, evaluation, or educational placement or the provision of a free appropriate public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ses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CEB6-3D30-4C75-9994-8F05215F4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ental Consent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nt must be obtained bef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or changing stud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identification as IDEA-elig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ing a preplacement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placement or change of plac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ing a re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nt is voluntary and may be revoked at an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B2E9-E4A6-462C-9122-E43473AFB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ent Participation in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districts must provide notice, thereby ensuring that parents have the opportunity to participate in meetings that add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al program and placement (The IEP T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636D-B41F-496D-B6D0-479BD8A3D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ecial Educa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590920" y="1676520"/>
            <a:ext cx="3962160" cy="29718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4419720" y="4495680"/>
            <a:ext cx="304560" cy="304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5"/>
          <p:cNvSpPr/>
          <p:nvPr/>
        </p:nvSpPr>
        <p:spPr>
          <a:xfrm rot="1744800">
            <a:off x="3504960" y="2895120"/>
            <a:ext cx="304560" cy="381240"/>
          </a:xfrm>
          <a:prstGeom prst="upArrow">
            <a:avLst>
              <a:gd name="adj1" fmla="val 50000"/>
              <a:gd name="adj2" fmla="val 31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2481120" y="5308560"/>
            <a:ext cx="418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termine Eligibility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termin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0" y="228600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velop the IEP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liver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8"/>
          <p:cNvSpPr/>
          <p:nvPr/>
        </p:nvSpPr>
        <p:spPr>
          <a:xfrm rot="8463000">
            <a:off x="5334120" y="2894760"/>
            <a:ext cx="304560" cy="381240"/>
          </a:xfrm>
          <a:prstGeom prst="upArrow">
            <a:avLst>
              <a:gd name="adj1" fmla="val 50000"/>
              <a:gd name="adj2" fmla="val 31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5638680" y="228600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onitor progres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989800" y="4510080"/>
            <a:ext cx="316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2520" y="1447920"/>
            <a:ext cx="383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ogram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5718960" y="152388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228600" y="6461280"/>
            <a:ext cx="733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77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770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2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4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77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7" dur="770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1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77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4" dur="770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6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8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E080-BF7C-4737-B30C-AA081D8C6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0320" y="-360"/>
            <a:ext cx="8881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tegories of Disa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2280" y="1295280"/>
            <a:ext cx="77594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ism (added in 19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f-Bl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f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ring Impair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al Retar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Dis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pedic Impair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Health Im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otional Disturb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Learning Di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ch and Language Im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umatic Brain Injury (added in 199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Impairment including Blin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28600" y="6477120"/>
            <a:ext cx="733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Sound 1" descr=""/>
          <p:cNvPicPr/>
          <p:nvPr/>
        </p:nvPicPr>
        <p:blipFill>
          <a:blip r:embed="rId1"/>
          <a:stretch/>
        </p:blipFill>
        <p:spPr>
          <a:xfrm>
            <a:off x="152280" y="525780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8E07-DE8C-4B21-981C-AE2212E83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 2: Protection in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s shall conduct a full and individual evaluation before the initial provision of special education and related services to a child with a disability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U.S.C. 1414(a)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Sound 2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11AC-51C7-4891-A9FB-79B515B57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valuation Materi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9040" y="19051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nd evaluation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not be discrimin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given in the child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native language or mode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ly sound instruments must be used to ass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nitive and behavioral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and developmental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Sound 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2880" cy="81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A2AF-9E58-4294-99F8-707F38BBD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valuation Proced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ent must be assessed in all areas related to the suspected di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hool is required to use a variety of assessment tools and  strategies to collect functional and developmental information that may assist in determ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ther a student has a di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ducational needs of a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996E-3482-4DB4-BF6C-1E7DACB02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terpreting Evaluation Da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92504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on information from a variety of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s must be documented and carefully consi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s must be made by a team (usually IEP te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ment decisions must be accordance with LR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228600" y="6400800"/>
            <a:ext cx="73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 /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aw and Special Edu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econd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6 by Pearson Educatio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5:44:52Z</dcterms:created>
  <dc:creator>Mitchell L. Yell, Ph.D.</dc:creator>
  <dc:description/>
  <dc:language>en-US</dc:language>
  <cp:lastModifiedBy>Christopher Heinemann</cp:lastModifiedBy>
  <dcterms:modified xsi:type="dcterms:W3CDTF">2011-12-12T00:54:00Z</dcterms:modified>
  <cp:revision>59</cp:revision>
  <dc:subject/>
  <dc:title>Six Principles of IDEA</dc:title>
</cp:coreProperties>
</file>